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ldren%20wow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29B-6A5D-468D-AD76-9157BC53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685-382B-40E6-95BE-2732F4B5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2C9-0702-4894-88F6-9A20A6E3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0C5-DD0E-4FAF-A9EC-79B59509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CAF-9D4E-4B6A-AA21-842D98C2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255-A06B-4E6F-9412-91C9F477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8BA-A083-4673-AE3C-4EB1D4B4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3D5-AF4D-430A-82A6-23265448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A8D-8FA8-4269-B947-0CB508A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A0C-5075-43D7-9F2E-67B66B7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B81-5D29-463F-89A5-13C6703B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66F-5271-4410-A915-36A47CC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5B9A-CE03-4022-A2A4-E5472676A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children%20wow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children%20wow.wav"/><Relationship Id="rId12" Type="http://schemas.openxmlformats.org/officeDocument/2006/relationships/audio" Target="../media/children%20wow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children%20wow.wav"/><Relationship Id="rId12" Type="http://schemas.openxmlformats.org/officeDocument/2006/relationships/audio" Target="../media/children%20wow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0320" y="12463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        3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16120" y="12668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6 </a:t>
            </a:r>
            <a:r>
              <a:rPr b="0" lang="en-US" sz="54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84440" y="20750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0 </a:t>
            </a:r>
            <a:r>
              <a:rPr b="0" lang="en-US" sz="5400" spc="-1" strike="noStrike">
                <a:solidFill>
                  <a:srgbClr val="ff0000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95720" y="203508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33560" y="300672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0480" y="300024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30320" y="12463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        4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16120" y="126684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2 </a:t>
            </a:r>
            <a:r>
              <a:rPr b="0" lang="en-US" sz="54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4440" y="20750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0 </a:t>
            </a:r>
            <a:r>
              <a:rPr b="0" lang="en-US" sz="5400" spc="-1" strike="noStrike">
                <a:solidFill>
                  <a:srgbClr val="ff0000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95720" y="203508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33560" y="300672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0480" y="300024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00080" y="2039760"/>
            <a:ext cx="45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       2,78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2280" y="217476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5880" y="206064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36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40200" y="21585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48160" y="3271680"/>
            <a:ext cx="5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8480" y="401148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400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35440" y="4008600"/>
            <a:ext cx="18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,8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9880" y="411156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17800" y="40953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63600" y="4246200"/>
            <a:ext cx="32256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00600" y="4257360"/>
            <a:ext cx="32220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508120" y="4236840"/>
            <a:ext cx="32256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49800" y="4249440"/>
            <a:ext cx="32220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00080" y="2039760"/>
            <a:ext cx="45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       1,67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2280" y="217476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85880" y="206064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6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040200" y="21585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09920" y="3271680"/>
            <a:ext cx="5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98480" y="401148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35440" y="4008600"/>
            <a:ext cx="18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,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09880" y="411156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917800" y="40953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08120" y="4236840"/>
            <a:ext cx="32256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249800" y="4249440"/>
            <a:ext cx="32220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7000" y="3255840"/>
            <a:ext cx="5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00080" y="2039760"/>
            <a:ext cx="45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         282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32280" y="2174760"/>
            <a:ext cx="232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206064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8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0200" y="21585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7760" y="3271680"/>
            <a:ext cx="5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8480" y="4011480"/>
            <a:ext cx="14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5440" y="400860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7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9880" y="4111560"/>
            <a:ext cx="232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917800" y="40953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08120" y="4236840"/>
            <a:ext cx="32256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951440" y="4249440"/>
            <a:ext cx="322200" cy="477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68760" y="3255840"/>
            <a:ext cx="18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, 1 – 10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3T13:44:26Z</dcterms:modified>
  <cp:revision>57</cp:revision>
  <dc:subject/>
  <dc:title>Slide 1</dc:title>
</cp:coreProperties>
</file>